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2DA8-73C8-496A-816E-33E635AC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9055-DC34-4153-986D-913C3F59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65CD-EE74-47AD-8A62-EA700723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A1F0-0764-4C6D-8E25-C3051D7F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59B1-1DC6-4B25-917D-F032CD96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841F-F3B6-4FEE-9ABA-25DB36CA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59CD-716B-48C5-BC1F-511EEF07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CA50-6B56-478C-8586-E4E12C9A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5E25-6200-47C6-9D55-D4A31C9A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039E-F480-44CA-B4C7-DEEBF1E4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189D-232B-48F5-8252-D6D3B49A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1B18-9E8B-44B6-B0A9-C843E529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CDD2-BA9D-4A90-B2CE-83309027E8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6C85-DCE6-493B-AFB4-3F276D1D64E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Rectangle 4"/>
          <p:cNvSpPr/>
          <p:nvPr/>
        </p:nvSpPr>
        <p:spPr>
          <a:xfrm>
            <a:off x="1285920" y="15001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rite out the Greek alphabet in order and the English equivalents of each let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181160" y="2711520"/>
          <a:ext cx="6786360" cy="642960"/>
        </p:xfrm>
        <a:graphic>
          <a:graphicData uri="http://schemas.openxmlformats.org/drawingml/2006/table">
            <a:tbl>
              <a:tblPr/>
              <a:tblGrid>
                <a:gridCol w="565200"/>
                <a:gridCol w="565200"/>
                <a:gridCol w="564840"/>
                <a:gridCol w="567000"/>
                <a:gridCol w="577800"/>
                <a:gridCol w="552240"/>
                <a:gridCol w="565200"/>
                <a:gridCol w="567000"/>
                <a:gridCol w="564840"/>
                <a:gridCol w="565200"/>
                <a:gridCol w="565200"/>
                <a:gridCol w="56664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β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γ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δ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ζ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κ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λ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μ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176480" y="4356000"/>
          <a:ext cx="6753240" cy="795600"/>
        </p:xfrm>
        <a:graphic>
          <a:graphicData uri="http://schemas.openxmlformats.org/drawingml/2006/table">
            <a:tbl>
              <a:tblPr/>
              <a:tblGrid>
                <a:gridCol w="561960"/>
                <a:gridCol w="563400"/>
                <a:gridCol w="561960"/>
                <a:gridCol w="563760"/>
                <a:gridCol w="561960"/>
                <a:gridCol w="563400"/>
                <a:gridCol w="561960"/>
                <a:gridCol w="563760"/>
                <a:gridCol w="622080"/>
                <a:gridCol w="571680"/>
                <a:gridCol w="557280"/>
                <a:gridCol w="500040"/>
              </a:tblGrid>
              <a:tr h="79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ξ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π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ρ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φ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χ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ψ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181160" y="3357720"/>
          <a:ext cx="6786360" cy="642960"/>
        </p:xfrm>
        <a:graphic>
          <a:graphicData uri="http://schemas.openxmlformats.org/drawingml/2006/table">
            <a:tbl>
              <a:tblPr/>
              <a:tblGrid>
                <a:gridCol w="565200"/>
                <a:gridCol w="566640"/>
                <a:gridCol w="565200"/>
                <a:gridCol w="565200"/>
                <a:gridCol w="579240"/>
                <a:gridCol w="552600"/>
                <a:gridCol w="565200"/>
                <a:gridCol w="565200"/>
                <a:gridCol w="564840"/>
                <a:gridCol w="567000"/>
                <a:gridCol w="565200"/>
                <a:gridCol w="56484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ē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176480" y="5143680"/>
          <a:ext cx="6753240" cy="795240"/>
        </p:xfrm>
        <a:graphic>
          <a:graphicData uri="http://schemas.openxmlformats.org/drawingml/2006/table">
            <a:tbl>
              <a:tblPr/>
              <a:tblGrid>
                <a:gridCol w="563400"/>
                <a:gridCol w="561960"/>
                <a:gridCol w="563760"/>
                <a:gridCol w="561960"/>
                <a:gridCol w="563400"/>
                <a:gridCol w="561960"/>
                <a:gridCol w="563760"/>
                <a:gridCol w="561960"/>
                <a:gridCol w="622080"/>
                <a:gridCol w="571680"/>
                <a:gridCol w="557280"/>
                <a:gridCol w="500040"/>
              </a:tblGrid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ō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TextBox 11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C555B2ED-101A-4971-809C-E4BD2DE7575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52" name="Rectangle 4"/>
          <p:cNvSpPr/>
          <p:nvPr/>
        </p:nvSpPr>
        <p:spPr>
          <a:xfrm>
            <a:off x="357120" y="142884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Write out the English alphabet and give the Greek (small) letter equivalent to each one as far as possible (ignore q, v and w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85920" y="3273480"/>
          <a:ext cx="6095880" cy="503280"/>
        </p:xfrm>
        <a:graphic>
          <a:graphicData uri="http://schemas.openxmlformats.org/drawingml/2006/table">
            <a:tbl>
              <a:tblPr/>
              <a:tblGrid>
                <a:gridCol w="468360"/>
                <a:gridCol w="469800"/>
                <a:gridCol w="468360"/>
                <a:gridCol w="469800"/>
                <a:gridCol w="468360"/>
                <a:gridCol w="468360"/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285920" y="3821040"/>
          <a:ext cx="6095880" cy="503280"/>
        </p:xfrm>
        <a:graphic>
          <a:graphicData uri="http://schemas.openxmlformats.org/drawingml/2006/table">
            <a:tbl>
              <a:tblPr/>
              <a:tblGrid>
                <a:gridCol w="468360"/>
                <a:gridCol w="469800"/>
                <a:gridCol w="468360"/>
                <a:gridCol w="469800"/>
                <a:gridCol w="468360"/>
                <a:gridCol w="468360"/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β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κ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δ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φ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γ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‘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κ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λ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292400" y="4670280"/>
          <a:ext cx="6095880" cy="503280"/>
        </p:xfrm>
        <a:graphic>
          <a:graphicData uri="http://schemas.openxmlformats.org/drawingml/2006/table">
            <a:tbl>
              <a:tblPr/>
              <a:tblGrid>
                <a:gridCol w="468000"/>
                <a:gridCol w="470160"/>
                <a:gridCol w="468360"/>
                <a:gridCol w="469800"/>
                <a:gridCol w="468360"/>
                <a:gridCol w="468360"/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297080" y="5238720"/>
          <a:ext cx="6095880" cy="503280"/>
        </p:xfrm>
        <a:graphic>
          <a:graphicData uri="http://schemas.openxmlformats.org/drawingml/2006/table">
            <a:tbl>
              <a:tblPr/>
              <a:tblGrid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  <a:gridCol w="4683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π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ρ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τ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ξ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Lucida Sans Unicode"/>
                        </a:rPr>
                        <a:t>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ζ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Box 9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D93FE612-B96E-4224-BE3B-73CDDACE8AA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760320" y="1249200"/>
            <a:ext cx="770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rite the sound of the following Greek words in English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63" name="TextBox 6"/>
          <p:cNvSpPr/>
          <p:nvPr/>
        </p:nvSpPr>
        <p:spPr>
          <a:xfrm>
            <a:off x="1262160" y="2079720"/>
            <a:ext cx="263988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πτισμ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ρον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οσμ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γ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ικρ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υστηριον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ραβολ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ραλυτικ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αββα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3616200" y="2141640"/>
            <a:ext cx="3516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baptisma-baptis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3629160" y="2627280"/>
            <a:ext cx="282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hronos- thro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3629160" y="3090960"/>
            <a:ext cx="443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kosmos- cosmos, wor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3616200" y="3554280"/>
            <a:ext cx="3735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megas- gre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3616200" y="4043520"/>
            <a:ext cx="282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mikros- sma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3616200" y="4506840"/>
            <a:ext cx="5214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mustērion </a:t>
            </a:r>
            <a:r>
              <a:rPr b="0" i="1" lang="en-GB" sz="27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mysterion– myster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3631320" y="5010120"/>
            <a:ext cx="3039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arabolē– parabl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3623760" y="5499000"/>
            <a:ext cx="55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aralutikos </a:t>
            </a:r>
            <a:r>
              <a:rPr b="0" i="1" lang="en-GB" sz="27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paralytikos–paralytic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3608280" y="5996160"/>
            <a:ext cx="5105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sabbaton- sabbath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6"/>
          <p:cNvSpPr/>
          <p:nvPr/>
        </p:nvSpPr>
        <p:spPr>
          <a:xfrm>
            <a:off x="6853320" y="6305400"/>
            <a:ext cx="200340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18BB0A8C-F9C4-4DB5-8241-5773D4E446F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77760" y="1158840"/>
            <a:ext cx="913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following are real Greek words written in English letters. Write them in Greek (small) letters, and have a guess at their mean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446120" y="2230560"/>
            <a:ext cx="2095560" cy="42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blasphēm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kard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ogik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mētē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patē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pneumatik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prophētē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py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phōn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-193680" y="193680"/>
            <a:ext cx="8477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4199040" y="2138400"/>
            <a:ext cx="3786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βλασφημη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blasphem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4199040" y="2602080"/>
            <a:ext cx="3786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k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αρδια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he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4211640" y="3081240"/>
            <a:ext cx="397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λογικος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rational</a:t>
            </a:r>
            <a:r>
              <a:rPr b="0" lang="el-GR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piritu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4199040" y="3541680"/>
            <a:ext cx="399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μητηρ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m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4211640" y="4030560"/>
            <a:ext cx="440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ατηρ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a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4"/>
          <p:cNvSpPr/>
          <p:nvPr/>
        </p:nvSpPr>
        <p:spPr>
          <a:xfrm>
            <a:off x="4211640" y="4510080"/>
            <a:ext cx="490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νευματικος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pirit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4211640" y="4989600"/>
            <a:ext cx="340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ροφητης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proph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4211640" y="5460840"/>
            <a:ext cx="292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πυρ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7"/>
          <p:cNvSpPr/>
          <p:nvPr/>
        </p:nvSpPr>
        <p:spPr>
          <a:xfrm>
            <a:off x="4199040" y="5927760"/>
            <a:ext cx="3244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φωνη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0B1946D1-D906-445C-B363-25255CD6E25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91" name="TextBox 6"/>
          <p:cNvSpPr/>
          <p:nvPr/>
        </p:nvSpPr>
        <p:spPr>
          <a:xfrm>
            <a:off x="1906560" y="166680"/>
            <a:ext cx="4660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.2 BREATH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27000" y="1327320"/>
            <a:ext cx="734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which of these Greek words is there a error in the breat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2227320" y="1919160"/>
            <a:ext cx="2306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γ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χ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ἐγ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4405320" y="2254320"/>
            <a:ext cx="3063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     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eft Arrow 13"/>
          <p:cNvSpPr/>
          <p:nvPr/>
        </p:nvSpPr>
        <p:spPr>
          <a:xfrm>
            <a:off x="4133880" y="2325600"/>
            <a:ext cx="682560" cy="3668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eft Arrow 16"/>
          <p:cNvSpPr/>
          <p:nvPr/>
        </p:nvSpPr>
        <p:spPr>
          <a:xfrm>
            <a:off x="4165560" y="4791240"/>
            <a:ext cx="682560" cy="366480"/>
          </a:xfrm>
          <a:prstGeom prst="leftArrow">
            <a:avLst>
              <a:gd name="adj1" fmla="val 50000"/>
              <a:gd name="adj2" fmla="val 50028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7"/>
          <p:cNvSpPr/>
          <p:nvPr/>
        </p:nvSpPr>
        <p:spPr>
          <a:xfrm>
            <a:off x="5640480" y="4700520"/>
            <a:ext cx="1558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eft Arrow 18"/>
          <p:cNvSpPr/>
          <p:nvPr/>
        </p:nvSpPr>
        <p:spPr>
          <a:xfrm>
            <a:off x="4133880" y="3147840"/>
            <a:ext cx="682560" cy="3668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9"/>
          <p:cNvSpPr/>
          <p:nvPr/>
        </p:nvSpPr>
        <p:spPr>
          <a:xfrm>
            <a:off x="5614920" y="3070080"/>
            <a:ext cx="1559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F55FB3A8-6484-4284-A945-B8483A09399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309600" y="5808600"/>
            <a:ext cx="86281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* Note: When a Greek word containing the diphthong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</a:rPr>
              <a:t>αι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</a:rPr>
              <a:t>’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is transliterated into English the 'ai' is normally represented by 'ae'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04" name="TextBox 4"/>
          <p:cNvSpPr/>
          <p:nvPr/>
        </p:nvSpPr>
        <p:spPr>
          <a:xfrm>
            <a:off x="2022480" y="166680"/>
            <a:ext cx="4829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.3 CAPITAL LETT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751040" y="1712880"/>
            <a:ext cx="2319480" cy="55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υλ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αρ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βραα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‘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Ιωσηφ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ιμ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ρῳδη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ερουσαλη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σα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500040" y="1276200"/>
            <a:ext cx="51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rite these names in English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4854600" y="1763640"/>
            <a:ext cx="248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aulos (Pau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854600" y="2254320"/>
            <a:ext cx="248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Maria (Mar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854600" y="2730600"/>
            <a:ext cx="3190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Abraam (Abraha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4906800" y="3219480"/>
            <a:ext cx="199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Josep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4881600" y="3695760"/>
            <a:ext cx="2433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Sim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4869000" y="4159080"/>
            <a:ext cx="3176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Heroides (Hero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4919760" y="4667400"/>
            <a:ext cx="2279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Jerusal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5"/>
          <p:cNvSpPr/>
          <p:nvPr/>
        </p:nvSpPr>
        <p:spPr>
          <a:xfrm>
            <a:off x="4894200" y="5149800"/>
            <a:ext cx="2355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Caesar*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F2BACCDF-612C-4511-9500-734048AE7E7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18" name="TextBox 3"/>
          <p:cNvSpPr/>
          <p:nvPr/>
        </p:nvSpPr>
        <p:spPr>
          <a:xfrm>
            <a:off x="385920" y="219240"/>
            <a:ext cx="9375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.4 DIPHTHONGS AND IOTA SUBSCRIP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894960" y="1327320"/>
            <a:ext cx="49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Write these names in Greek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874800" y="1906560"/>
            <a:ext cx="3747960" cy="4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Barnabas (Barnaba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etros  (Pete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hilippos (Philip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ilatos (Pilat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imotheos (Timoth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Joudaea (Judea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Satanas (Sata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harisaios (Pharisee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5357880" y="204804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ρναβ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5010120" y="3052800"/>
            <a:ext cx="24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5319720" y="370692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λατ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5332320" y="314640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ιππ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5345280" y="259560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τρ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5322960" y="428940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ιμοθε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5322960" y="484668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ουδα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5322960" y="5394240"/>
            <a:ext cx="2354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αταν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4"/>
          <p:cNvSpPr/>
          <p:nvPr/>
        </p:nvSpPr>
        <p:spPr>
          <a:xfrm>
            <a:off x="5305320" y="5924520"/>
            <a:ext cx="235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αρισαι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6EA64AC6-2751-4371-9C1C-07C57A09596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360360" y="1403280"/>
            <a:ext cx="84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Which of the following words has a smooth breat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868400" y="231840"/>
            <a:ext cx="6678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.5 ACCENT AND STRES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35" name="TextBox 5"/>
          <p:cNvSpPr/>
          <p:nvPr/>
        </p:nvSpPr>
        <p:spPr>
          <a:xfrm>
            <a:off x="2216160" y="2189160"/>
            <a:ext cx="2909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άλλ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ἄγ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ὑρίσκ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ἅγι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</a:t>
            </a:r>
            <a:r>
              <a:rPr b="0" lang="en-GB" sz="2700" spc="-1" strike="noStrike">
                <a:solidFill>
                  <a:srgbClr val="ffffff"/>
                </a:solidFill>
                <a:latin typeface="Greek"/>
              </a:rPr>
              <a:t>î</a:t>
            </a:r>
            <a:r>
              <a:rPr b="0" lang="el-GR" sz="2700" spc="-1" strike="noStrike">
                <a:solidFill>
                  <a:srgbClr val="ffffff"/>
                </a:solidFill>
                <a:latin typeface="Greek"/>
              </a:rPr>
              <a:t>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eft Arrow 7"/>
          <p:cNvSpPr/>
          <p:nvPr/>
        </p:nvSpPr>
        <p:spPr>
          <a:xfrm>
            <a:off x="4286160" y="3395520"/>
            <a:ext cx="682560" cy="3668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eft Arrow 8"/>
          <p:cNvSpPr/>
          <p:nvPr/>
        </p:nvSpPr>
        <p:spPr>
          <a:xfrm>
            <a:off x="4305240" y="5869080"/>
            <a:ext cx="682560" cy="366480"/>
          </a:xfrm>
          <a:prstGeom prst="leftArrow">
            <a:avLst>
              <a:gd name="adj1" fmla="val 50000"/>
              <a:gd name="adj2" fmla="val 50028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0ADE8269-1ABC-4435-9004-FA46417C089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986760" y="1519200"/>
            <a:ext cx="31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ch are question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2679840" y="231840"/>
            <a:ext cx="6680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.6 PUNCTUATI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43" name="TextBox 5"/>
          <p:cNvSpPr/>
          <p:nvPr/>
        </p:nvSpPr>
        <p:spPr>
          <a:xfrm>
            <a:off x="2292480" y="2125800"/>
            <a:ext cx="2936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χω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ουσ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λλ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ε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eft Arrow 6"/>
          <p:cNvSpPr/>
          <p:nvPr/>
        </p:nvSpPr>
        <p:spPr>
          <a:xfrm>
            <a:off x="4630680" y="2533680"/>
            <a:ext cx="681120" cy="366840"/>
          </a:xfrm>
          <a:prstGeom prst="leftArrow">
            <a:avLst>
              <a:gd name="adj1" fmla="val 50000"/>
              <a:gd name="adj2" fmla="val 49985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eft Arrow 7"/>
          <p:cNvSpPr/>
          <p:nvPr/>
        </p:nvSpPr>
        <p:spPr>
          <a:xfrm>
            <a:off x="4616280" y="5016600"/>
            <a:ext cx="682920" cy="366480"/>
          </a:xfrm>
          <a:prstGeom prst="leftArrow">
            <a:avLst>
              <a:gd name="adj1" fmla="val 50000"/>
              <a:gd name="adj2" fmla="val 50054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Practice </a:t>
            </a:r>
            <a:fld id="{DCAE68ED-551C-4869-A9B2-C464E901765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9:51:08Z</dcterms:created>
  <dc:creator>Sarah</dc:creator>
  <dc:description/>
  <dc:language>en-US</dc:language>
  <cp:lastModifiedBy>Sarah</cp:lastModifiedBy>
  <dcterms:modified xsi:type="dcterms:W3CDTF">2009-03-02T22:42:10Z</dcterms:modified>
  <cp:revision>79</cp:revision>
  <dc:subject/>
  <dc:title>Slide 1</dc:title>
</cp:coreProperties>
</file>